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830-3691-42B5-954A-2873076D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1EF-D2DB-48B3-94EF-089456A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DB1-C0EF-4A68-B531-691F1436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307-C3D0-4EE8-BAC8-8429135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852-A62F-444D-A846-7511AB0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BC6-7D33-4570-9EE1-2ECC3EB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A4C-F690-4C1F-B46C-7092C64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959-8AC1-4A15-A031-CB3B400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672-9B6E-4E82-8992-8A2F625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106-8FE5-4100-B337-DA9FD3C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34D-8F5D-4D1C-A2FC-2E85874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A05-3001-4024-8566-7D93DCF9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004B-4DEA-4EAC-A6A5-184A37E5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@lexiko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?action=AttachFile&amp;do=get&amp;target=Eligibility+Screening_FINAL_10-8-2007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other 3 services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R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ffers EMRwrapper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ou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8:04:05Z</dcterms:modified>
  <cp:revision>28</cp:revision>
  <dc:subject/>
  <dc:title>COI Architecture? </dc:title>
</cp:coreProperties>
</file>